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B29-6F53-4C8D-84D0-D6EFC1E6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68B8-5DDE-4B71-8D86-E7B1BCB8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70D-E560-4239-88D1-4C4C38E2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2A3-64BE-4F91-A8FE-D8B6685F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45A-6712-4C77-B1C4-A1FCD3AD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1FA-E2DC-4B90-BA8F-50BD1782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804-DC4E-451D-9747-E145F8B1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AE1B-A9B1-4D76-AF68-B4C805DA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299-3BF9-44C6-9347-1182E5CE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08B-34BD-44F7-9F20-00A09B99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6AA-AE2E-4B88-A97F-8A80EFB1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D54-3A23-4286-8363-6041EC9A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9014-B0EF-4316-9FE0-695E0FA360B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7:54:18Z</dcterms:created>
  <dc:creator>Grupo Editorial</dc:creator>
  <dc:description/>
  <dc:language>en-US</dc:language>
  <cp:lastModifiedBy>TORRES</cp:lastModifiedBy>
  <dcterms:modified xsi:type="dcterms:W3CDTF">2010-12-19T08:12:58Z</dcterms:modified>
  <cp:revision>2</cp:revision>
  <dc:subject/>
  <dc:title>Sin título de diapositiva</dc:title>
</cp:coreProperties>
</file>